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13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831D5-46CB-4094-B77F-3777888454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99622-7109-4EC6-AE9D-BC6CAD687F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3C204-25B1-40F2-9C25-71B36A42C8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E595F-751A-4962-87FD-1593DF45A3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AE2F2-E71C-4CF3-B3D0-304FD2174F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C5228-861F-44DB-9260-AFE4B4D13D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A98E3-6042-4FFB-A0A9-E57C01D829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FEA5F-0D2D-4691-9B9B-9DE0974C21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213DB-5842-4271-806A-5F0EA3AB9D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F40C0-A164-44AE-834F-457C0AA7B8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AF8D4-5C03-4193-8A9C-BA8937A518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0214A-AAA2-46DB-85A5-D3759A9708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73569AC-51D2-4EE7-B13A-0DCEA9071B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www.shkola-abv.ru/" TargetMode="External"/><Relationship Id="rId3" Type="http://schemas.openxmlformats.org/officeDocument/2006/relationships/hyperlink" Target="http://www.shkola-abv.ru/" TargetMode="External"/><Relationship Id="rId4" Type="http://schemas.openxmlformats.org/officeDocument/2006/relationships/hyperlink" Target="http://www.shkola-abv.ru/" TargetMode="External"/><Relationship Id="rId5" Type="http://schemas.openxmlformats.org/officeDocument/2006/relationships/hyperlink" Target="http://www.shkola-abv.ru/" TargetMode="External"/><Relationship Id="rId6" Type="http://schemas.openxmlformats.org/officeDocument/2006/relationships/hyperlink" Target="http://www.shkola-abv.ru/" TargetMode="External"/><Relationship Id="rId7" Type="http://schemas.openxmlformats.org/officeDocument/2006/relationships/hyperlink" Target="http://www.shkola-abv.ru/" TargetMode="External"/><Relationship Id="rId8" Type="http://schemas.openxmlformats.org/officeDocument/2006/relationships/hyperlink" Target="http://www.shkola-abv.ru/" TargetMode="Externa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e0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Group 4" descr=""/>
          <p:cNvPicPr/>
          <p:nvPr/>
        </p:nvPicPr>
        <p:blipFill>
          <a:blip r:embed="rId1"/>
          <a:stretch/>
        </p:blipFill>
        <p:spPr>
          <a:xfrm>
            <a:off x="1163520" y="-6480"/>
            <a:ext cx="1109880" cy="68835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1619280" y="2101680"/>
            <a:ext cx="73818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ahoma"/>
              </a:rPr>
              <a:t>  </a:t>
            </a:r>
            <a:r>
              <a:rPr b="1" lang="ru-RU" sz="4000" spc="-1" strike="noStrike">
                <a:solidFill>
                  <a:srgbClr val="c00000"/>
                </a:solidFill>
                <a:latin typeface="Tahoma"/>
              </a:rPr>
              <a:t>Викторина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ahoma"/>
              </a:rPr>
              <a:t>«О змеях в Год змеи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Eunectes Images – Browse 867 Stock Photos, Vectors, and Video | Adobe Stock"/>
          <p:cNvPicPr/>
          <p:nvPr/>
        </p:nvPicPr>
        <p:blipFill>
          <a:blip r:embed="rId2"/>
          <a:stretch/>
        </p:blipFill>
        <p:spPr>
          <a:xfrm>
            <a:off x="3059280" y="3645000"/>
            <a:ext cx="3816360" cy="253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e0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1476360" y="2276640"/>
            <a:ext cx="6480360" cy="642600"/>
          </a:xfrm>
          <a:prstGeom prst="rect">
            <a:avLst/>
          </a:prstGeom>
          <a:solidFill>
            <a:srgbClr val="bde1c6"/>
          </a:solidFill>
          <a:ln w="9360">
            <a:solidFill>
              <a:srgbClr val="497f57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ahoma"/>
                <a:ea typeface="Tahoma"/>
              </a:rPr>
              <a:t>На каком материке нет змей? Почем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>
            <a:off x="0" y="6307200"/>
            <a:ext cx="9144000" cy="1440"/>
          </a:xfrm>
          <a:prstGeom prst="line">
            <a:avLst/>
          </a:prstGeom>
          <a:ln w="38160">
            <a:solidFill>
              <a:srgbClr val="8abc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Рисунок 4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862440" cy="37069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469800" y="6453360"/>
            <a:ext cx="8229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«Биология»  |  Издательский дом «Первое сентября» | № 01/2013</a:t>
            </a:r>
            <a:br>
              <a:rPr sz="1200"/>
            </a:b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Викторина «О змеях в Год змеи» | Слайд № 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e0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5148360" y="4365720"/>
            <a:ext cx="3995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ahoma"/>
                <a:ea typeface="Tahoma"/>
              </a:rPr>
              <a:t>Змей нет в Антарктид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ahoma"/>
                <a:ea typeface="Tahoma"/>
              </a:rPr>
              <a:t>Змеи – холоднокровные животные, температура их тела зависит от температуры окружающей сред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4"/>
          <p:cNvSpPr/>
          <p:nvPr/>
        </p:nvSpPr>
        <p:spPr>
          <a:xfrm>
            <a:off x="0" y="6307200"/>
            <a:ext cx="9144000" cy="1440"/>
          </a:xfrm>
          <a:prstGeom prst="line">
            <a:avLst/>
          </a:prstGeom>
          <a:ln w="38160">
            <a:solidFill>
              <a:srgbClr val="8abc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Рисунок 3" descr=""/>
          <p:cNvPicPr/>
          <p:nvPr/>
        </p:nvPicPr>
        <p:blipFill>
          <a:blip r:embed="rId1"/>
          <a:stretch/>
        </p:blipFill>
        <p:spPr>
          <a:xfrm>
            <a:off x="324000" y="252360"/>
            <a:ext cx="4400280" cy="5587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6" name="Рисунок 6" descr=""/>
          <p:cNvPicPr/>
          <p:nvPr/>
        </p:nvPicPr>
        <p:blipFill>
          <a:blip r:embed="rId2"/>
          <a:stretch/>
        </p:blipFill>
        <p:spPr>
          <a:xfrm>
            <a:off x="5386320" y="252360"/>
            <a:ext cx="3362400" cy="3608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7" name="Rectangle 3"/>
          <p:cNvSpPr/>
          <p:nvPr/>
        </p:nvSpPr>
        <p:spPr>
          <a:xfrm>
            <a:off x="469800" y="6453360"/>
            <a:ext cx="8229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«Биология»  |  Издательский дом «Первое сентября» | № 01/2013</a:t>
            </a:r>
            <a:br>
              <a:rPr sz="1200"/>
            </a:b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Викторина «О змеях в Год змеи» | Слайд №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e0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1476360" y="2276640"/>
            <a:ext cx="6480360" cy="1191240"/>
          </a:xfrm>
          <a:prstGeom prst="rect">
            <a:avLst/>
          </a:prstGeom>
          <a:solidFill>
            <a:srgbClr val="bde1c6"/>
          </a:solidFill>
          <a:ln w="9360">
            <a:solidFill>
              <a:srgbClr val="497f57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ahoma"/>
                <a:ea typeface="Tahoma"/>
              </a:rPr>
              <a:t>Где образуется змеиный яд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ahoma"/>
                <a:ea typeface="Tahoma"/>
              </a:rPr>
              <a:t>Чем он опасен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0" y="6307200"/>
            <a:ext cx="9144000" cy="1440"/>
          </a:xfrm>
          <a:prstGeom prst="line">
            <a:avLst/>
          </a:prstGeom>
          <a:ln w="38160">
            <a:solidFill>
              <a:srgbClr val="8abc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Рисунок 4" descr=""/>
          <p:cNvPicPr/>
          <p:nvPr/>
        </p:nvPicPr>
        <p:blipFill>
          <a:blip r:embed="rId1"/>
          <a:stretch/>
        </p:blipFill>
        <p:spPr>
          <a:xfrm rot="6417000">
            <a:off x="6364440" y="2689560"/>
            <a:ext cx="2377800" cy="24591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469800" y="6453360"/>
            <a:ext cx="8229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«Биология»  |  Издательский дом «Первое сентября» | № 01/2013</a:t>
            </a:r>
            <a:br>
              <a:rPr sz="1200"/>
            </a:b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Викторина «О змеях в Год змеи» | Слайд № 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e0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0" y="4869000"/>
            <a:ext cx="914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ahoma"/>
                <a:ea typeface="Tahoma"/>
              </a:rPr>
              <a:t>У змей яд производят слюнные железы. Для введения его в тело жертвы </a:t>
            </a:r>
            <a:br>
              <a:rPr sz="1600"/>
            </a:br>
            <a:r>
              <a:rPr b="0" lang="ru-RU" sz="1600" spc="-1" strike="noStrike">
                <a:solidFill>
                  <a:srgbClr val="c00000"/>
                </a:solidFill>
                <a:latin typeface="Tahoma"/>
                <a:ea typeface="Tahoma"/>
              </a:rPr>
              <a:t>используются зубы-шприцы. Яд может парализовать нервную систему, </a:t>
            </a:r>
            <a:br>
              <a:rPr sz="1600"/>
            </a:br>
            <a:r>
              <a:rPr b="0" lang="ru-RU" sz="1600" spc="-1" strike="noStrike">
                <a:solidFill>
                  <a:srgbClr val="c00000"/>
                </a:solidFill>
                <a:latin typeface="Tahoma"/>
                <a:ea typeface="Tahoma"/>
              </a:rPr>
              <a:t>разрушать кровь, кровеносные сосуды, ткан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0" y="6307200"/>
            <a:ext cx="9144000" cy="1440"/>
          </a:xfrm>
          <a:prstGeom prst="line">
            <a:avLst/>
          </a:prstGeom>
          <a:ln w="38160">
            <a:solidFill>
              <a:srgbClr val="8abc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Рисунок 2" descr=""/>
          <p:cNvPicPr/>
          <p:nvPr/>
        </p:nvPicPr>
        <p:blipFill>
          <a:blip r:embed="rId1"/>
          <a:stretch/>
        </p:blipFill>
        <p:spPr>
          <a:xfrm>
            <a:off x="390600" y="1484280"/>
            <a:ext cx="4037040" cy="2438280"/>
          </a:xfrm>
          <a:prstGeom prst="rect">
            <a:avLst/>
          </a:prstGeom>
          <a:ln w="28440">
            <a:solidFill>
              <a:srgbClr val="497f57"/>
            </a:solidFill>
            <a:miter/>
          </a:ln>
        </p:spPr>
      </p:pic>
      <p:pic>
        <p:nvPicPr>
          <p:cNvPr id="95" name="Рисунок 3" descr=""/>
          <p:cNvPicPr/>
          <p:nvPr/>
        </p:nvPicPr>
        <p:blipFill>
          <a:blip r:embed="rId2"/>
          <a:stretch/>
        </p:blipFill>
        <p:spPr>
          <a:xfrm>
            <a:off x="4606920" y="549360"/>
            <a:ext cx="4143240" cy="3954240"/>
          </a:xfrm>
          <a:prstGeom prst="rect">
            <a:avLst/>
          </a:prstGeom>
          <a:ln w="28440">
            <a:solidFill>
              <a:srgbClr val="497f57"/>
            </a:solidFill>
            <a:miter/>
          </a:ln>
        </p:spPr>
      </p:pic>
      <p:sp>
        <p:nvSpPr>
          <p:cNvPr id="96" name="Rectangle 3"/>
          <p:cNvSpPr/>
          <p:nvPr/>
        </p:nvSpPr>
        <p:spPr>
          <a:xfrm>
            <a:off x="469800" y="6453360"/>
            <a:ext cx="8229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«Биология»  |  Издательский дом «Первое сентября» | № 01/2013</a:t>
            </a:r>
            <a:br>
              <a:rPr sz="1200"/>
            </a:b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Викторина «О змеях в Год змеи» | Слайд № 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e0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1476360" y="2276640"/>
            <a:ext cx="6480360" cy="1739880"/>
          </a:xfrm>
          <a:prstGeom prst="rect">
            <a:avLst/>
          </a:prstGeom>
          <a:solidFill>
            <a:srgbClr val="bde1c6"/>
          </a:solidFill>
          <a:ln w="9360">
            <a:solidFill>
              <a:srgbClr val="497f57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ahoma"/>
                <a:ea typeface="Tahoma"/>
              </a:rPr>
              <a:t>Наиболее часто у нас встречаются ужи и гадюки. Гадюка ядовита, а уж нет. 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Tahoma"/>
                <a:ea typeface="Tahoma"/>
              </a:rPr>
              <a:t>Как их отличить друг от друг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0" y="6307200"/>
            <a:ext cx="9144000" cy="1440"/>
          </a:xfrm>
          <a:prstGeom prst="line">
            <a:avLst/>
          </a:prstGeom>
          <a:ln w="38160">
            <a:solidFill>
              <a:srgbClr val="8abc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Рисунок 4" descr=""/>
          <p:cNvPicPr/>
          <p:nvPr/>
        </p:nvPicPr>
        <p:blipFill>
          <a:blip r:embed="rId1"/>
          <a:stretch/>
        </p:blipFill>
        <p:spPr>
          <a:xfrm>
            <a:off x="638280" y="1052640"/>
            <a:ext cx="1269720" cy="48243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469800" y="6453360"/>
            <a:ext cx="8229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«Биология»  |  Издательский дом «Первое сентября» | № 01/2013</a:t>
            </a:r>
            <a:br>
              <a:rPr sz="1200"/>
            </a:b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Викторина «О змеях в Год змеи» | Слайд № 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e0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216000" y="4740120"/>
            <a:ext cx="414000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ahoma"/>
                <a:ea typeface="Tahoma"/>
              </a:rPr>
              <a:t>У ужа на голове, ближе к шее, два оранжевых, желтых или </a:t>
            </a:r>
            <a:br>
              <a:rPr sz="1600"/>
            </a:br>
            <a:r>
              <a:rPr b="0" lang="ru-RU" sz="1600" spc="-1" strike="noStrike">
                <a:solidFill>
                  <a:srgbClr val="c00000"/>
                </a:solidFill>
                <a:latin typeface="Tahoma"/>
                <a:ea typeface="Tahoma"/>
              </a:rPr>
              <a:t>грязно-белых пятна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0" y="6307200"/>
            <a:ext cx="9144000" cy="1440"/>
          </a:xfrm>
          <a:prstGeom prst="line">
            <a:avLst/>
          </a:prstGeom>
          <a:ln w="38160">
            <a:solidFill>
              <a:srgbClr val="8abc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Рисунок 2" descr=""/>
          <p:cNvPicPr/>
          <p:nvPr/>
        </p:nvPicPr>
        <p:blipFill>
          <a:blip r:embed="rId1"/>
          <a:stretch/>
        </p:blipFill>
        <p:spPr>
          <a:xfrm>
            <a:off x="4716360" y="981000"/>
            <a:ext cx="4221360" cy="3481560"/>
          </a:xfrm>
          <a:prstGeom prst="rect">
            <a:avLst/>
          </a:prstGeom>
          <a:ln w="38160">
            <a:solidFill>
              <a:srgbClr val="497f57"/>
            </a:solidFill>
            <a:miter/>
          </a:ln>
        </p:spPr>
      </p:pic>
      <p:pic>
        <p:nvPicPr>
          <p:cNvPr id="104" name="Рисунок 3" descr=""/>
          <p:cNvPicPr/>
          <p:nvPr/>
        </p:nvPicPr>
        <p:blipFill>
          <a:blip r:embed="rId2"/>
          <a:stretch/>
        </p:blipFill>
        <p:spPr>
          <a:xfrm>
            <a:off x="108000" y="981000"/>
            <a:ext cx="4438440" cy="3481560"/>
          </a:xfrm>
          <a:prstGeom prst="rect">
            <a:avLst/>
          </a:prstGeom>
          <a:ln w="38160">
            <a:solidFill>
              <a:srgbClr val="497f57"/>
            </a:solidFill>
            <a:miter/>
          </a:ln>
        </p:spPr>
      </p:pic>
      <p:sp>
        <p:nvSpPr>
          <p:cNvPr id="105" name="TextBox 6"/>
          <p:cNvSpPr/>
          <p:nvPr/>
        </p:nvSpPr>
        <p:spPr>
          <a:xfrm>
            <a:off x="5076720" y="4748040"/>
            <a:ext cx="35989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ahoma"/>
                <a:ea typeface="Tahoma"/>
              </a:rPr>
              <a:t>У гадюки таких пятен нет, зато заметна извилистая темная полоса вдоль спин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469800" y="6453360"/>
            <a:ext cx="8229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«Биология»  |  Издательский дом «Первое сентября» | № 01/2013</a:t>
            </a:r>
            <a:br>
              <a:rPr sz="1200"/>
            </a:b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Викторина «О змеях в Год змеи» | Слайд № 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e0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1476360" y="2133720"/>
            <a:ext cx="6480360" cy="1191240"/>
          </a:xfrm>
          <a:prstGeom prst="rect">
            <a:avLst/>
          </a:prstGeom>
          <a:solidFill>
            <a:srgbClr val="bde1c6"/>
          </a:solidFill>
          <a:ln w="9360">
            <a:solidFill>
              <a:srgbClr val="497f57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ahoma"/>
                <a:ea typeface="Tahoma"/>
              </a:rPr>
              <a:t>Почему змея – символ фармаколог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ahoma"/>
                <a:ea typeface="Tahoma"/>
              </a:rPr>
              <a:t>Чем полезен змеиный яд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0" y="6307200"/>
            <a:ext cx="9144000" cy="1440"/>
          </a:xfrm>
          <a:prstGeom prst="line">
            <a:avLst/>
          </a:prstGeom>
          <a:ln w="38160">
            <a:solidFill>
              <a:srgbClr val="8abc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Рисунок 4" descr=""/>
          <p:cNvPicPr/>
          <p:nvPr/>
        </p:nvPicPr>
        <p:blipFill>
          <a:blip r:embed="rId1"/>
          <a:stretch/>
        </p:blipFill>
        <p:spPr>
          <a:xfrm rot="19080000">
            <a:off x="3538440" y="3476160"/>
            <a:ext cx="2355840" cy="21052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469800" y="6453360"/>
            <a:ext cx="8229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«Биология»  |  Издательский дом «Первое сентября» | № 01/2013</a:t>
            </a:r>
            <a:br>
              <a:rPr sz="1200"/>
            </a:b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Викторина «О змеях в Год змеи» | Слайд № 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e0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0" y="4941720"/>
            <a:ext cx="914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ahoma"/>
                <a:ea typeface="Tahoma"/>
              </a:rPr>
              <a:t>Чаша символизирует сосуд для лекарств, с помощью которых можно бороться с болезнями. Змея – символ мудрости, знания и могущества природы. </a:t>
            </a:r>
            <a:br>
              <a:rPr sz="1600"/>
            </a:br>
            <a:r>
              <a:rPr b="0" lang="ru-RU" sz="1600" spc="-1" strike="noStrike">
                <a:solidFill>
                  <a:srgbClr val="c00000"/>
                </a:solidFill>
                <a:latin typeface="Tahoma"/>
                <a:ea typeface="Tahoma"/>
              </a:rPr>
              <a:t>Препараты из змеиного яда используются при лечении многих заболевани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4"/>
          <p:cNvSpPr/>
          <p:nvPr/>
        </p:nvSpPr>
        <p:spPr>
          <a:xfrm>
            <a:off x="0" y="6307200"/>
            <a:ext cx="9144000" cy="1440"/>
          </a:xfrm>
          <a:prstGeom prst="line">
            <a:avLst/>
          </a:prstGeom>
          <a:ln w="38160">
            <a:solidFill>
              <a:srgbClr val="8abc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Рисунок 2" descr=""/>
          <p:cNvPicPr/>
          <p:nvPr/>
        </p:nvPicPr>
        <p:blipFill>
          <a:blip r:embed="rId1"/>
          <a:stretch/>
        </p:blipFill>
        <p:spPr>
          <a:xfrm>
            <a:off x="2411280" y="620640"/>
            <a:ext cx="4248360" cy="41022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469800" y="6453360"/>
            <a:ext cx="8229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«Биология»  |  Издательский дом «Первое сентября» | № 01/2013</a:t>
            </a:r>
            <a:br>
              <a:rPr sz="1200"/>
            </a:b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Викторина «О змеях в Год змеи» | Слайд № 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e0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1476360" y="2276640"/>
            <a:ext cx="6480360" cy="1191240"/>
          </a:xfrm>
          <a:prstGeom prst="rect">
            <a:avLst/>
          </a:prstGeom>
          <a:solidFill>
            <a:srgbClr val="bde1c6"/>
          </a:solidFill>
          <a:ln w="9360">
            <a:solidFill>
              <a:srgbClr val="497f57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ahoma"/>
                <a:ea typeface="Tahoma"/>
              </a:rPr>
              <a:t>Могут ли змеи плава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ahoma"/>
                <a:ea typeface="Tahoma"/>
              </a:rPr>
              <a:t>А лета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0" y="6307200"/>
            <a:ext cx="9144000" cy="1440"/>
          </a:xfrm>
          <a:prstGeom prst="line">
            <a:avLst/>
          </a:prstGeom>
          <a:ln w="38160">
            <a:solidFill>
              <a:srgbClr val="8abc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Рисунок 4" descr=""/>
          <p:cNvPicPr/>
          <p:nvPr/>
        </p:nvPicPr>
        <p:blipFill>
          <a:blip r:embed="rId1"/>
          <a:stretch/>
        </p:blipFill>
        <p:spPr>
          <a:xfrm>
            <a:off x="6311880" y="1989000"/>
            <a:ext cx="2387520" cy="25923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469800" y="6453360"/>
            <a:ext cx="8229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«Биология»  |  Издательский дом «Первое сентября» | № 01/2013</a:t>
            </a:r>
            <a:br>
              <a:rPr sz="1200"/>
            </a:b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Викторина «О змеях в Год змеи» | Слайд № 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e0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4211640" y="4091040"/>
            <a:ext cx="4487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ahoma"/>
                <a:ea typeface="Tahoma"/>
              </a:rPr>
              <a:t>Плавать умеют многие змеи, но только морские ведут полностью водный образ жизни. У морских змей веслообразный хвост и сплюснутое по бокам тел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0" y="6307200"/>
            <a:ext cx="9144000" cy="1440"/>
          </a:xfrm>
          <a:prstGeom prst="line">
            <a:avLst/>
          </a:prstGeom>
          <a:ln w="38160">
            <a:solidFill>
              <a:srgbClr val="8abc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Рисунок 3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3187440" cy="4713120"/>
          </a:xfrm>
          <a:prstGeom prst="rect">
            <a:avLst/>
          </a:prstGeom>
          <a:ln w="28440">
            <a:solidFill>
              <a:srgbClr val="497f57"/>
            </a:solidFill>
            <a:miter/>
          </a:ln>
        </p:spPr>
      </p:pic>
      <p:pic>
        <p:nvPicPr>
          <p:cNvPr id="122" name="Рисунок 7" descr=""/>
          <p:cNvPicPr/>
          <p:nvPr/>
        </p:nvPicPr>
        <p:blipFill>
          <a:blip r:embed="rId2"/>
          <a:stretch/>
        </p:blipFill>
        <p:spPr>
          <a:xfrm>
            <a:off x="3780000" y="873000"/>
            <a:ext cx="5019480" cy="2916360"/>
          </a:xfrm>
          <a:prstGeom prst="rect">
            <a:avLst/>
          </a:prstGeom>
          <a:ln w="28440">
            <a:solidFill>
              <a:srgbClr val="497f57"/>
            </a:solidFill>
            <a:miter/>
          </a:ln>
        </p:spPr>
      </p:pic>
      <p:sp>
        <p:nvSpPr>
          <p:cNvPr id="123" name="Rectangle 3"/>
          <p:cNvSpPr/>
          <p:nvPr/>
        </p:nvSpPr>
        <p:spPr>
          <a:xfrm>
            <a:off x="469800" y="6453360"/>
            <a:ext cx="8229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«Биология»  |  Издательский дом «Первое сентября» | № 01/2013</a:t>
            </a:r>
            <a:br>
              <a:rPr sz="1200"/>
            </a:b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Викторина «О змеях в Год змеи» | Слайд № 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e0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469800" y="6453360"/>
            <a:ext cx="8229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«Биология»  |  Издательский дом «Первое сентября» | № 01/2013</a:t>
            </a:r>
            <a:br>
              <a:rPr sz="1200"/>
            </a:b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Викторина «О змеях в Год змеи» | Слайд №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Line 4"/>
          <p:cNvSpPr/>
          <p:nvPr/>
        </p:nvSpPr>
        <p:spPr>
          <a:xfrm>
            <a:off x="0" y="6307200"/>
            <a:ext cx="9144000" cy="1440"/>
          </a:xfrm>
          <a:prstGeom prst="line">
            <a:avLst/>
          </a:prstGeom>
          <a:ln w="38160">
            <a:solidFill>
              <a:srgbClr val="8abc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Box 1"/>
          <p:cNvSpPr/>
          <p:nvPr/>
        </p:nvSpPr>
        <p:spPr>
          <a:xfrm>
            <a:off x="1476360" y="2276640"/>
            <a:ext cx="6480360" cy="1739880"/>
          </a:xfrm>
          <a:prstGeom prst="rect">
            <a:avLst/>
          </a:prstGeom>
          <a:solidFill>
            <a:srgbClr val="bde1c6"/>
          </a:solidFill>
          <a:ln w="9360">
            <a:solidFill>
              <a:srgbClr val="497f57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ahoma"/>
                <a:ea typeface="Tahoma"/>
              </a:rPr>
              <a:t>У какого холоднокровного животного при высиживании яиц температура тела повышается на 3–4 градуса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Рисунок 22" descr=""/>
          <p:cNvPicPr/>
          <p:nvPr/>
        </p:nvPicPr>
        <p:blipFill>
          <a:blip r:embed="rId1"/>
          <a:stretch/>
        </p:blipFill>
        <p:spPr>
          <a:xfrm rot="5128800">
            <a:off x="-624240" y="2568240"/>
            <a:ext cx="3965400" cy="10954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3" descr=""/>
          <p:cNvPicPr/>
          <p:nvPr/>
        </p:nvPicPr>
        <p:blipFill>
          <a:blip r:embed="rId2"/>
          <a:stretch/>
        </p:blipFill>
        <p:spPr>
          <a:xfrm rot="14446800">
            <a:off x="6635520" y="3909600"/>
            <a:ext cx="1967040" cy="17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e0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469800" y="5046840"/>
            <a:ext cx="822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ahoma"/>
                <a:ea typeface="Tahoma"/>
              </a:rPr>
              <a:t>Летать змеи не умеют, но некоторые виды, обитающие на деревьях, используют элементы парения при прыжках с ветки на ветку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0" y="6307200"/>
            <a:ext cx="9144000" cy="1440"/>
          </a:xfrm>
          <a:prstGeom prst="line">
            <a:avLst/>
          </a:prstGeom>
          <a:ln w="38160">
            <a:solidFill>
              <a:srgbClr val="8abc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Рисунок 6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7900920" cy="38307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469800" y="6453360"/>
            <a:ext cx="8229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«Биология»  |  Издательский дом «Первое сентября» | № 01/2013</a:t>
            </a:r>
            <a:br>
              <a:rPr sz="1200"/>
            </a:b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Викторина «О змеях в Год змеи» | Слайд № 1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e0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Line 4"/>
          <p:cNvSpPr/>
          <p:nvPr/>
        </p:nvSpPr>
        <p:spPr>
          <a:xfrm>
            <a:off x="0" y="6307200"/>
            <a:ext cx="9144000" cy="1440"/>
          </a:xfrm>
          <a:prstGeom prst="line">
            <a:avLst/>
          </a:prstGeom>
          <a:ln w="38160">
            <a:solidFill>
              <a:srgbClr val="8abc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1668600" y="1033560"/>
            <a:ext cx="5832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Фотограф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2195640" y="1628640"/>
            <a:ext cx="4895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Arial"/>
              </a:rPr>
              <a:t>zoofirma.r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Arial"/>
              </a:rPr>
              <a:t>dic.academic.r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Arial"/>
              </a:rPr>
              <a:t>myreptile.r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Arial"/>
              </a:rPr>
              <a:t>genusvipera.blogspo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Arial"/>
              </a:rPr>
              <a:t>komiedu.r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Arial"/>
              </a:rPr>
              <a:t>nnm.r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469800" y="6453360"/>
            <a:ext cx="8229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«Биология»  |  Издательский дом «Первое сентября» | № 01/2013</a:t>
            </a:r>
            <a:br>
              <a:rPr sz="1200"/>
            </a:b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Викторина «О змеях в Год змеи» | Слайд № 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6" descr="Эмблема круг"/>
          <p:cNvPicPr/>
          <p:nvPr/>
        </p:nvPicPr>
        <p:blipFill>
          <a:blip r:embed="rId1"/>
          <a:stretch/>
        </p:blipFill>
        <p:spPr>
          <a:xfrm>
            <a:off x="4140360" y="3429000"/>
            <a:ext cx="769680" cy="75564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2"/>
          <p:cNvSpPr/>
          <p:nvPr/>
        </p:nvSpPr>
        <p:spPr>
          <a:xfrm>
            <a:off x="3150360" y="5516640"/>
            <a:ext cx="2690640" cy="368280"/>
          </a:xfrm>
          <a:prstGeom prst="rect">
            <a:avLst/>
          </a:prstGeom>
          <a:noFill/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ttps://vk.com/shkola_a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52520" y="4492440"/>
            <a:ext cx="256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  <a:ea typeface="Times New Roman"/>
              </a:rPr>
              <a:t>сайт «Школа АБВ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 u="sng">
                <a:solidFill>
                  <a:srgbClr val="67afbd"/>
                </a:solidFill>
                <a:uFillTx/>
                <a:latin typeface="Arial"/>
                <a:ea typeface="Times New Roman"/>
                <a:hlinkClick r:id="rId2"/>
              </a:rPr>
              <a:t>www</a:t>
            </a:r>
            <a:r>
              <a:rPr b="0" lang="ru-RU" sz="2000" spc="-1" strike="noStrike" u="sng">
                <a:solidFill>
                  <a:srgbClr val="67afbd"/>
                </a:solidFill>
                <a:uFillTx/>
                <a:latin typeface="Arial"/>
                <a:ea typeface="Times New Roman"/>
                <a:hlinkClick r:id="rId3"/>
              </a:rPr>
              <a:t>.</a:t>
            </a:r>
            <a:r>
              <a:rPr b="0" lang="en-US" sz="2000" spc="-1" strike="noStrike" u="sng">
                <a:solidFill>
                  <a:srgbClr val="67afbd"/>
                </a:solidFill>
                <a:uFillTx/>
                <a:latin typeface="Arial"/>
                <a:ea typeface="Times New Roman"/>
                <a:hlinkClick r:id="rId4"/>
              </a:rPr>
              <a:t>shkola</a:t>
            </a:r>
            <a:r>
              <a:rPr b="0" lang="ru-RU" sz="2000" spc="-1" strike="noStrike" u="sng">
                <a:solidFill>
                  <a:srgbClr val="67afbd"/>
                </a:solidFill>
                <a:uFillTx/>
                <a:latin typeface="Arial"/>
                <a:ea typeface="Times New Roman"/>
                <a:hlinkClick r:id="rId5"/>
              </a:rPr>
              <a:t>-</a:t>
            </a:r>
            <a:r>
              <a:rPr b="0" lang="en-US" sz="2000" spc="-1" strike="noStrike" u="sng">
                <a:solidFill>
                  <a:srgbClr val="67afbd"/>
                </a:solidFill>
                <a:uFillTx/>
                <a:latin typeface="Arial"/>
                <a:ea typeface="Times New Roman"/>
                <a:hlinkClick r:id="rId6"/>
              </a:rPr>
              <a:t>abv</a:t>
            </a:r>
            <a:r>
              <a:rPr b="0" lang="ru-RU" sz="2000" spc="-1" strike="noStrike" u="sng">
                <a:solidFill>
                  <a:srgbClr val="67afbd"/>
                </a:solidFill>
                <a:uFillTx/>
                <a:latin typeface="Arial"/>
                <a:ea typeface="Times New Roman"/>
                <a:hlinkClick r:id="rId7"/>
              </a:rPr>
              <a:t>.</a:t>
            </a:r>
            <a:r>
              <a:rPr b="0" lang="en-US" sz="2000" spc="-1" strike="noStrike" u="sng">
                <a:solidFill>
                  <a:srgbClr val="67afbd"/>
                </a:solidFill>
                <a:uFillTx/>
                <a:latin typeface="Arial"/>
                <a:ea typeface="Times New Roman"/>
                <a:hlinkClick r:id="rId8"/>
              </a:rPr>
              <a:t>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87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e0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4"/>
          <p:cNvSpPr/>
          <p:nvPr/>
        </p:nvSpPr>
        <p:spPr>
          <a:xfrm>
            <a:off x="0" y="6307200"/>
            <a:ext cx="9144000" cy="1440"/>
          </a:xfrm>
          <a:prstGeom prst="line">
            <a:avLst/>
          </a:prstGeom>
          <a:ln w="38160">
            <a:solidFill>
              <a:srgbClr val="8abc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1332000" y="546588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ahoma"/>
                <a:ea typeface="Tahoma"/>
              </a:rPr>
              <a:t>У пиона, который согревает кладку, обвивая ее своим тело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6408720" cy="4599000"/>
          </a:xfrm>
          <a:prstGeom prst="rect">
            <a:avLst/>
          </a:prstGeom>
          <a:ln w="38160">
            <a:solidFill>
              <a:srgbClr val="497f57"/>
            </a:solidFill>
            <a:miter/>
          </a:ln>
        </p:spPr>
      </p:pic>
      <p:sp>
        <p:nvSpPr>
          <p:cNvPr id="54" name="Rectangle 3"/>
          <p:cNvSpPr/>
          <p:nvPr/>
        </p:nvSpPr>
        <p:spPr>
          <a:xfrm>
            <a:off x="469800" y="6453360"/>
            <a:ext cx="8229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«Биология»  |  Издательский дом «Первое сентября» | № 01/2013</a:t>
            </a:r>
            <a:br>
              <a:rPr sz="1200"/>
            </a:b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Викторина «О змеях в Год змеи» | Слайд №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e0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1476360" y="2276640"/>
            <a:ext cx="6480360" cy="1191240"/>
          </a:xfrm>
          <a:prstGeom prst="rect">
            <a:avLst/>
          </a:prstGeom>
          <a:solidFill>
            <a:srgbClr val="bde1c6"/>
          </a:solidFill>
          <a:ln w="9360">
            <a:solidFill>
              <a:srgbClr val="497f57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ahoma"/>
                <a:ea typeface="Tahoma"/>
              </a:rPr>
              <a:t>Почему про змей говорят, что они вылезают из кожи вон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0" y="6307200"/>
            <a:ext cx="9144000" cy="1440"/>
          </a:xfrm>
          <a:prstGeom prst="line">
            <a:avLst/>
          </a:prstGeom>
          <a:ln w="38160">
            <a:solidFill>
              <a:srgbClr val="8abc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Рисунок 4" descr=""/>
          <p:cNvPicPr/>
          <p:nvPr/>
        </p:nvPicPr>
        <p:blipFill>
          <a:blip r:embed="rId1"/>
          <a:stretch/>
        </p:blipFill>
        <p:spPr>
          <a:xfrm rot="17154000">
            <a:off x="4407840" y="2118240"/>
            <a:ext cx="3673440" cy="35258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469800" y="6453360"/>
            <a:ext cx="8229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«Биология»  |  Издательский дом «Первое сентября» | № 01/2013</a:t>
            </a:r>
            <a:br>
              <a:rPr sz="1200"/>
            </a:b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Викторина «О змеях в Год змеи» | Слайд №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e0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324000" y="4965840"/>
            <a:ext cx="8569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ahoma"/>
                <a:ea typeface="Tahoma"/>
              </a:rPr>
              <a:t>Во время периодически повторяющихся линек змея сбрасывает старую,</a:t>
            </a:r>
            <a:br>
              <a:rPr sz="1600"/>
            </a:br>
            <a:r>
              <a:rPr b="0" lang="ru-RU" sz="1600" spc="-1" strike="noStrike">
                <a:solidFill>
                  <a:srgbClr val="c00000"/>
                </a:solidFill>
                <a:latin typeface="Tahoma"/>
                <a:ea typeface="Tahoma"/>
              </a:rPr>
              <a:t> «поношенную» кожу. Ползая среди камней и кустов, она начинает сдвигать ее с головы назад и постепенно стягивает с себя, как перчатку с ру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>
            <a:off x="0" y="6307200"/>
            <a:ext cx="9144000" cy="1440"/>
          </a:xfrm>
          <a:prstGeom prst="line">
            <a:avLst/>
          </a:prstGeom>
          <a:ln w="38160">
            <a:solidFill>
              <a:srgbClr val="8abc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Рисунок 1" descr=""/>
          <p:cNvPicPr/>
          <p:nvPr/>
        </p:nvPicPr>
        <p:blipFill>
          <a:blip r:embed="rId1"/>
          <a:stretch/>
        </p:blipFill>
        <p:spPr>
          <a:xfrm>
            <a:off x="1403280" y="476280"/>
            <a:ext cx="6337440" cy="4226040"/>
          </a:xfrm>
          <a:prstGeom prst="rect">
            <a:avLst/>
          </a:prstGeom>
          <a:ln w="38160">
            <a:solidFill>
              <a:srgbClr val="497f57"/>
            </a:solidFill>
            <a:miter/>
          </a:ln>
        </p:spPr>
      </p:pic>
      <p:sp>
        <p:nvSpPr>
          <p:cNvPr id="62" name="Rectangle 3"/>
          <p:cNvSpPr/>
          <p:nvPr/>
        </p:nvSpPr>
        <p:spPr>
          <a:xfrm>
            <a:off x="469800" y="6453360"/>
            <a:ext cx="8229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«Биология»  |  Издательский дом «Первое сентября» | № 01/2013</a:t>
            </a:r>
            <a:br>
              <a:rPr sz="1200"/>
            </a:b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Викторина «О змеях в Год змеи» | Слайд №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e0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1476360" y="1844640"/>
            <a:ext cx="6480360" cy="2288520"/>
          </a:xfrm>
          <a:prstGeom prst="rect">
            <a:avLst/>
          </a:prstGeom>
          <a:solidFill>
            <a:srgbClr val="bde1c6"/>
          </a:solidFill>
          <a:ln w="9360">
            <a:solidFill>
              <a:srgbClr val="497f57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ahoma"/>
                <a:ea typeface="Tahoma"/>
              </a:rPr>
              <a:t>На конце хвоста этой змеи чешуйки образуют погремушку, 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Tahoma"/>
                <a:ea typeface="Tahoma"/>
              </a:rPr>
              <a:t>что отразилось в ее названии. 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Tahoma"/>
                <a:ea typeface="Tahoma"/>
              </a:rPr>
              <a:t>Что это за зме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>
            <a:off x="0" y="6307200"/>
            <a:ext cx="9144000" cy="1440"/>
          </a:xfrm>
          <a:prstGeom prst="line">
            <a:avLst/>
          </a:prstGeom>
          <a:ln w="38160">
            <a:solidFill>
              <a:srgbClr val="8abc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Рисунок 4" descr=""/>
          <p:cNvPicPr/>
          <p:nvPr/>
        </p:nvPicPr>
        <p:blipFill>
          <a:blip r:embed="rId1"/>
          <a:stretch/>
        </p:blipFill>
        <p:spPr>
          <a:xfrm rot="19358400">
            <a:off x="475920" y="2991960"/>
            <a:ext cx="2440080" cy="26481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469800" y="6453360"/>
            <a:ext cx="8229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«Биология»  |  Издательский дом «Первое сентября» | № 01/2013</a:t>
            </a:r>
            <a:br>
              <a:rPr sz="1200"/>
            </a:b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Викторина «О змеях в Год змеи» | Слайд №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e0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0" y="4821120"/>
            <a:ext cx="914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ahoma"/>
                <a:ea typeface="Tahoma"/>
              </a:rPr>
              <a:t>Гремучие змеи имеют на кончике хвоста погремушку, образованную видоизмененными чешуйками. При колебании кончика хвоста чешуйки ударяются друг о друга, в результате чего получаются характерные гремящие звук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0" y="6307200"/>
            <a:ext cx="9144000" cy="1440"/>
          </a:xfrm>
          <a:prstGeom prst="line">
            <a:avLst/>
          </a:prstGeom>
          <a:ln w="38160">
            <a:solidFill>
              <a:srgbClr val="8abc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Рисунок 2" descr=""/>
          <p:cNvPicPr/>
          <p:nvPr/>
        </p:nvPicPr>
        <p:blipFill>
          <a:blip r:embed="rId1"/>
          <a:stretch/>
        </p:blipFill>
        <p:spPr>
          <a:xfrm>
            <a:off x="1440000" y="584280"/>
            <a:ext cx="6227640" cy="3924360"/>
          </a:xfrm>
          <a:prstGeom prst="rect">
            <a:avLst/>
          </a:prstGeom>
          <a:ln w="38160">
            <a:solidFill>
              <a:srgbClr val="497f57"/>
            </a:solidFill>
            <a:miter/>
          </a:ln>
        </p:spPr>
      </p:pic>
      <p:sp>
        <p:nvSpPr>
          <p:cNvPr id="70" name="Rectangle 3"/>
          <p:cNvSpPr/>
          <p:nvPr/>
        </p:nvSpPr>
        <p:spPr>
          <a:xfrm>
            <a:off x="469800" y="6453360"/>
            <a:ext cx="8229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«Биология»  |  Издательский дом «Первое сентября» | № 01/2013</a:t>
            </a:r>
            <a:br>
              <a:rPr sz="1200"/>
            </a:b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Викторина «О змеях в Год змеи» | Слайд №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e0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1476360" y="2276640"/>
            <a:ext cx="6480360" cy="1191240"/>
          </a:xfrm>
          <a:prstGeom prst="rect">
            <a:avLst/>
          </a:prstGeom>
          <a:solidFill>
            <a:srgbClr val="bde1c6"/>
          </a:solidFill>
          <a:ln w="9360">
            <a:solidFill>
              <a:srgbClr val="497f57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ahoma"/>
                <a:ea typeface="Tahoma"/>
              </a:rPr>
              <a:t>Правда ли, что кобра танцует под звуки дудочки факир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0" y="6307200"/>
            <a:ext cx="9144000" cy="1440"/>
          </a:xfrm>
          <a:prstGeom prst="line">
            <a:avLst/>
          </a:prstGeom>
          <a:ln w="38160">
            <a:solidFill>
              <a:srgbClr val="8abc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Рисунок 4" descr=""/>
          <p:cNvPicPr/>
          <p:nvPr/>
        </p:nvPicPr>
        <p:blipFill>
          <a:blip r:embed="rId1"/>
          <a:stretch/>
        </p:blipFill>
        <p:spPr>
          <a:xfrm>
            <a:off x="2124000" y="3933720"/>
            <a:ext cx="4716360" cy="13035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469800" y="6453360"/>
            <a:ext cx="8229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«Биология»  |  Издательский дом «Первое сентября» | № 01/2013</a:t>
            </a:r>
            <a:br>
              <a:rPr sz="1200"/>
            </a:b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Викторина «О змеях в Год змеи» | Слайд №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e0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0" y="526248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ahoma"/>
                <a:ea typeface="Tahoma"/>
              </a:rPr>
              <a:t>Змея не танцует, а всего лишь движется в такт движениям флейты: куда инструмент, </a:t>
            </a:r>
            <a:br>
              <a:rPr sz="1600"/>
            </a:br>
            <a:r>
              <a:rPr b="0" lang="ru-RU" sz="1600" spc="-1" strike="noStrike">
                <a:solidFill>
                  <a:srgbClr val="c00000"/>
                </a:solidFill>
                <a:latin typeface="Tahoma"/>
                <a:ea typeface="Tahoma"/>
              </a:rPr>
              <a:t>туда и кобра. Это ориентировочный рефлекс при виде возможного противни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0" y="6307200"/>
            <a:ext cx="9144000" cy="1440"/>
          </a:xfrm>
          <a:prstGeom prst="line">
            <a:avLst/>
          </a:prstGeom>
          <a:ln w="38160">
            <a:solidFill>
              <a:srgbClr val="8abc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Рисунок 1" descr=""/>
          <p:cNvPicPr/>
          <p:nvPr/>
        </p:nvPicPr>
        <p:blipFill>
          <a:blip r:embed="rId1"/>
          <a:stretch/>
        </p:blipFill>
        <p:spPr>
          <a:xfrm>
            <a:off x="1403280" y="590400"/>
            <a:ext cx="6372360" cy="4494240"/>
          </a:xfrm>
          <a:prstGeom prst="rect">
            <a:avLst/>
          </a:prstGeom>
          <a:ln w="38160">
            <a:solidFill>
              <a:srgbClr val="497f57"/>
            </a:solidFill>
            <a:miter/>
          </a:ln>
        </p:spPr>
      </p:pic>
      <p:sp>
        <p:nvSpPr>
          <p:cNvPr id="78" name="Rectangle 3"/>
          <p:cNvSpPr/>
          <p:nvPr/>
        </p:nvSpPr>
        <p:spPr>
          <a:xfrm>
            <a:off x="469800" y="6453360"/>
            <a:ext cx="82296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«Биология»  |  Издательский дом «Первое сентября» | № 01/2013</a:t>
            </a:r>
            <a:br>
              <a:rPr sz="1200"/>
            </a:br>
            <a:r>
              <a:rPr b="1" lang="ru-RU" sz="1200" spc="-1" strike="noStrike">
                <a:solidFill>
                  <a:srgbClr val="8abc97"/>
                </a:solidFill>
                <a:latin typeface="Times New Roman"/>
              </a:rPr>
              <a:t>Викторина «О змеях в Год змеи» | Слайд №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4:02:16Z</dcterms:created>
  <dc:creator>Kasper</dc:creator>
  <dc:description/>
  <dc:language>en-US</dc:language>
  <cp:lastModifiedBy>Берюхов</cp:lastModifiedBy>
  <dcterms:modified xsi:type="dcterms:W3CDTF">2024-12-07T12:56:48Z</dcterms:modified>
  <cp:revision>259</cp:revision>
  <dc:subject/>
  <dc:title>Название статьи</dc:title>
</cp:coreProperties>
</file>